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D01C-D14A-47F2-B7F5-4B6ED74BD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519F-6624-4F8A-AEDA-C233B523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63875-BBEF-493A-96B9-76E48732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407763-E7D0-4281-BFC4-8D3CD2A7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8ADFC1-A61B-44D9-B6D1-C2D3DAED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2F2F63-CF11-4DF7-98DA-11CB60BD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39812A-615E-49F5-9CF6-A19CB9A3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855378-056D-45BB-B903-CA7F2F4E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9AB54F-A645-405D-B952-CDA645BA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446A65-74B8-44B7-B478-A3AF931DB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8DEBCF-DB1D-489B-B5E0-4DBBC0C7E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91BB7E-02B7-41A5-98EC-8FF946314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A2AE-540D-4F8F-BDB5-163614C50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19767E-CA99-4F73-AAA2-DA6BC1F2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5F6EB5-79C3-416A-84A5-8169B0B1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7EE871-7BB2-464B-916C-D3C7DF64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959855-9AB2-4094-BBC9-DD17FDE8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FA89C0-D5C7-41F0-94DC-1AF017CA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A43299-6C1E-4DA4-A395-3A1593EE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A15346-AAFD-432C-A35F-FE4C770D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C71EDD-766C-451C-9061-EE85CFCD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64A3CD-0361-4362-B77B-F014A3E3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38EE54-723D-493E-88EA-EDC230B0A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8D13-7127-4992-9705-E1C6372CD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F99A53-E59A-4751-ABAF-E489F554A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915C5-6665-42C9-B2B1-CC9DA9EA7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343C0-E38D-4A87-93C1-7A3DD521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C9A462-E9DC-41D2-A31C-7EAC5E5D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49BA0C-0396-4007-A263-973F3856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F5D89-89C5-44B7-B045-9704FDCF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34FEB-994E-4713-8363-C88B3772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82E70-21CF-4F65-B4C5-42A2FF93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923B07-E92A-450D-A58F-46260F3A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D5CDBA-88D4-42DE-AA13-9FF11B57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67B4-9947-4083-951E-23F2FC363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4E7DC-397F-44B0-9546-5A3BC015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21DBF1-27AA-452E-887C-039A9837F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3A653-9248-48D1-BE2C-729562AE3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992ABE-4DCA-4A95-9F14-F8221EBF8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1317D4-3074-48E7-BC14-3772E5C2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C6D6F8-218B-44C0-BAD8-7D9317A6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728225-FA80-4E4D-8012-26E1D41D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8E9626-CA08-475B-A998-161E29C6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95835A-C22E-4687-BB73-DD40BBC9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B46630-7A61-4860-942F-F3AF0D06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5CEBE-89C4-475B-84F6-267E0360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017553-4691-414B-B043-BB8BAEEF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ED5066-145D-4954-BAEE-3C9159A5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A8B708-18CE-4301-85FC-CB4E675B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1C1B7C-0E90-4232-9D40-F61951192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CAD5AD-CFDB-47A1-88B8-0DAA40B28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0F23-A63C-403D-A989-F1321E23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E6A7-0CBC-41BF-BD8E-4DCC32E0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29661-2F85-4A64-8F7D-6FEB6CB9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62C1B-1E5C-4F26-A104-6316A345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E865C-E1AB-4988-B6A9-8BF6E1BB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F143-2707-4947-A5C2-47B4B66E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8AF5-EF13-43E0-AB86-E17B275D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1DD1-1F9B-4797-9699-98C8E5E4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5F3C-DC26-4708-8574-DC389F3E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644D4-F544-461F-919D-4BB88F321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0433-9094-421B-8F0D-DFA1B4EEB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F5AC6-E4DC-42A9-9256-7279C31B7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CDFF8-4748-4C93-9806-06917AEC8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DA86A-2916-476F-B5AC-65C003B7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F663C-81BB-46AD-AD0D-73A3AAD0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A5EE8-2B87-4697-BFDC-55FF7197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2D0B-65EB-4FFD-9EE4-26991660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9C8DE-10B9-4EBE-9285-5FBAFA32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BA2F9-11E8-4771-8FF6-9C491BAB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DCFCC-3DAC-4E92-B9BA-B274330F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3AE85-66CB-4786-86F3-E9471AEC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157EC-A0E2-466A-9C73-9C8116E4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5F988-850A-458B-B686-5D2D4017A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64F04-142D-4E35-8F2C-739689353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DA701-EFFC-454E-9CAC-8B9C409AC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5B164-0A57-4F03-9105-91D7C406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45C83-2BA3-4EFA-83DA-A5263A94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E800-3CD0-4AAB-B5D5-D85BDF6E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D4053-1CA0-4E0C-88E5-BA481F4F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73A04-B570-4E5D-82DF-6A52400A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F8BB4-8BE8-4900-8E05-9CE953BC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F5F33-433E-41EE-9815-6C911AB4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8DE13-FF29-4032-B55A-5A043861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A8CFA-9563-4391-8A0B-5F514781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165F1-A92C-45FC-929B-75EB4339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92C02-803B-47AF-ACE5-957CEF7FA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71B20-3879-4370-BD67-F960F7B58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2432C-13B2-45CA-904E-A4C2D50B6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7AC3-9804-4D92-BBBC-3DCA4987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0E764-CE59-4BD4-A629-C7079AD7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9AF61-1551-41B6-9437-71650620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E4685-52AD-44F9-B51A-2FC6D239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340AE-27BB-4522-8F27-ECFA0C5F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C1BDB-DE15-42A0-8835-F59613BE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5C656-447C-4E81-8844-E53C46A8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60BFD-FD56-462B-9EDD-E38F8EC0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70AA2-25CA-43C9-95F9-A1C6AA38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33DFA-902C-4D6F-8B12-B4487FD8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C741D-4C1E-4E30-84E2-F4DAFBDE4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3789-B69C-4CF7-BB6C-4CA04333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56380-DA25-4839-8628-9FB99D4D5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193AA-D3D2-4D92-84D9-0B3B1B52A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7A52A-F565-464D-89DC-54E255FF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A0F6B-09DC-43FA-B63E-33014C1A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16373-824A-4FD5-9042-6BFC2D2B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273EB-EFC4-43E9-934F-9BB1F6E3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16A8F-C0E9-4797-A49F-AF40DD6A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F7F41-BF2D-49AE-90ED-EA8035A3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0805C-5D77-4A49-B758-F5E2DEE0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11A74-BEDA-4BBE-94D3-96217505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B4AC-8D03-475E-9F28-058BFB10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0E10B-FFA9-4226-BDF0-0708C8AF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FD5DB-F0D1-46ED-AD8D-837DB5781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2FD09-5C9C-49DC-B0BB-10481A129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87858-F8F3-408A-90AC-3B37F5285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375DD-625F-4EC2-9C08-9B0A486C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22073-FF8C-4A2C-A818-B8D861B6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0110C-233A-4189-8CA6-EF124ED3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DE77D-0B4B-4920-9C76-FDF4AA70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74594-AC27-43A5-94C9-886AE3B3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D95E0-B041-415D-B213-2B197422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B424-350E-493E-B413-90CA3D46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774AB-87FA-45D8-BE42-9C78F4DA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EE300-153E-487E-B80E-6A76F312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2CD77-20F7-47EE-A77E-29676856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98283-3450-47F5-B88E-ED1B4F3CD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CBB88-F5EB-42DE-ACC3-AC0C3DE6B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D958D-FF7E-447C-B141-CD8FD6144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7A31B-7574-4C2A-A490-C9C503E3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3265C-AA21-4276-9756-D29B34C7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720D2-CD92-40A3-8AC1-1C6E1C10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5391E-7A85-4B7A-BCF1-913A4607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50B8-43CA-4F8B-A013-21BD2038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2E575-59E1-49DA-B6E4-2BB034D1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5C6A6-1850-4268-807C-A613AAC8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2EF75-FCF3-4A54-B9F0-BA1CBE1D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E5588-E04F-49AC-92C8-690D09F2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42644-EAB5-4956-A205-05A215B7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02E6E-5FB4-4B02-B431-C095D33E7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E70D1-1F88-4895-A36B-D08F64438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B4EA4-F15E-4159-B69F-E7A7A0106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25DB27-FA97-466D-B0D6-01AF3E09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62CFCF-83A3-44F3-AE00-3ACAF872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6854-3926-4321-B3C4-3643E94E546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7350-4E1B-4FAC-89F0-9F0E8DAAF3A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7AF5-FD92-46A0-AF41-D403B647EE0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5FCA-F341-4497-96B8-FE3B672382A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9D01-1C03-4F0D-A138-4424852062A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A5D4-4338-410E-9E66-44F529B0814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F8E4-0151-4B78-A095-014C6A0F1E7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026C-0578-4672-84E2-2469A43D5DC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F4DA-7C66-4F3E-8B8E-25673F26343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5002-A96D-4C57-83B9-2CEFC22D976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0187-F4E1-4E4D-8854-5CC3DC2E714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3B0B-7F2F-405F-A716-BBDF197EC71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19 Môj Pán a Spasite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ôj Pán a Spasit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m teba veleb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na kríž kvôli mne si šie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 chcem pre teba ž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sveta temnot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ám mi, Pane, svie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ojou krvou zmy môj hriech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ňa cestou spásy ve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om úbohý, vieš s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y chceš mi všetko d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v tvojej krvi pomoc m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ňou smiem sa čistý st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sveta temnot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ám mi, Pane, svie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ojou krvou zmy môj hriech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ňa cestou spásy ve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 túžim, Pane mô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z s tebou mať svoj die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ty si môjho blaha zdro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ám v tebe žitia ci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sveta temnot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ám mi, Pane, svie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ojou krvou zmy môj hriech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ňa cestou spásy ve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 mňa na Golgot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i z lásky život d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esť vzdávam tvojej dobrot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ôj Záchranca a Krá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sveta temnot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ám mi, Pane, svie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ojou krvou zmy môj hriech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ňa cestou spásy veď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2-18T16:34:21Z</dcterms:modified>
  <cp:revision>21</cp:revision>
  <dc:subject/>
  <dc:title>Je veľký náš Pán, on slávy je Kráľ Nech do všetkých strán  spev vrúcnych znie chvál.</dc:title>
</cp:coreProperties>
</file>